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0EE5EF0-A8C8-4022-8342-45587F3BC86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BEC7E84-0C6A-4132-A985-67CDF7EFA1B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EBB5-3FEB-45A5-9B9D-8932B952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8CFA-C4AB-4DDE-A0D6-BE5FC16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3E4F-1BA0-4707-A881-0CB8C5A8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54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716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54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716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DDEE-9BB8-4822-B565-1EE11260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6F7D5-2FD9-4288-B1A7-B01F4F26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6A601-65C5-4139-88C8-EBC36D8A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1F985-4C93-4FE2-A66B-CEE3760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1FC64-307B-4809-ABBC-54B5D336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C2C23-36AF-4131-8D27-296ADF3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7280" y="188640"/>
            <a:ext cx="777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157D-E9FE-459F-810D-6D8B90C3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C7209-1323-4FF7-BDD8-81A15E7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D439-1F12-4059-AE19-13E4B2E4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E1539-71BE-42F9-BB12-E74D428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5E759-007F-4503-807F-4AA3E9E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80C9D-F248-4870-8111-C2AB102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077B1-CF4D-4218-B378-2EA1757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54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716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40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54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716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46655-8898-4C66-8867-14528F6C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DFEA2-DCCE-4DD7-A010-E6958427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5D7D5-59C5-46F1-BF0A-8FF1154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A1F01-FE6B-412A-A100-39A96BF8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CB60D-57C4-4E96-BD51-BA9EC205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F7FC3-0F44-4754-A152-9D28E42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59F3-3BB4-4476-9A54-0384D82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87280" y="188640"/>
            <a:ext cx="777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D6B63-66DD-4D57-ADB0-6062716D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14428-FD65-49BE-B5F2-E9D3C22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C2B8F-E264-4327-9EDB-469F48F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80F72-D67B-4C64-9343-022245AF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77EDC-D11E-42F9-A4F5-4DEC3D2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0D8E9-30F5-4607-A22C-891372E4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54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6716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40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54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6716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BFA4E-1D75-4D72-A652-68F24C80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F298-1D61-4C4D-9D39-2404427F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87DA-9A7B-48C4-A052-462F0913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88640"/>
            <a:ext cx="777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A40F-9451-438C-872E-927FE8C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E365-D9C9-48F8-8E2F-CFD71CF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0FA2-AAC0-4EE9-8ACA-0D41C26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79F8-222E-41D3-AF21-E643F2F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08436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08A-1DE4-4F56-8F4E-042539CDDC6F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2364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logo_bdf_web"/>
          <p:cNvPicPr/>
          <p:nvPr/>
        </p:nvPicPr>
        <p:blipFill>
          <a:blip r:embed="rId2"/>
          <a:stretch/>
        </p:blipFill>
        <p:spPr>
          <a:xfrm>
            <a:off x="108000" y="189000"/>
            <a:ext cx="1008000" cy="766800"/>
          </a:xfrm>
          <a:prstGeom prst="rect">
            <a:avLst/>
          </a:prstGeom>
          <a:ln w="0">
            <a:noFill/>
          </a:ln>
        </p:spPr>
      </p:pic>
      <p:pic>
        <p:nvPicPr>
          <p:cNvPr id="6" name="Image 1" descr=""/>
          <p:cNvPicPr/>
          <p:nvPr/>
        </p:nvPicPr>
        <p:blipFill>
          <a:blip r:embed="rId3"/>
          <a:stretch/>
        </p:blipFill>
        <p:spPr>
          <a:xfrm>
            <a:off x="8459640" y="6111720"/>
            <a:ext cx="600120" cy="74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logo_bdf_web"/>
          <p:cNvPicPr/>
          <p:nvPr/>
        </p:nvPicPr>
        <p:blipFill>
          <a:blip r:embed="rId2"/>
          <a:stretch/>
        </p:blipFill>
        <p:spPr>
          <a:xfrm>
            <a:off x="108000" y="189000"/>
            <a:ext cx="1008000" cy="766800"/>
          </a:xfrm>
          <a:prstGeom prst="rect">
            <a:avLst/>
          </a:prstGeom>
          <a:ln w="0">
            <a:noFill/>
          </a:ln>
        </p:spPr>
      </p:pic>
      <p:pic>
        <p:nvPicPr>
          <p:cNvPr id="44" name="Image 1" descr=""/>
          <p:cNvPicPr/>
          <p:nvPr/>
        </p:nvPicPr>
        <p:blipFill>
          <a:blip r:embed="rId3"/>
          <a:stretch/>
        </p:blipFill>
        <p:spPr>
          <a:xfrm>
            <a:off x="8459640" y="6111720"/>
            <a:ext cx="600120" cy="74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08436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CD3-BBBF-4AC5-9924-56C26F84BDA6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logo_bdf_web"/>
          <p:cNvPicPr/>
          <p:nvPr/>
        </p:nvPicPr>
        <p:blipFill>
          <a:blip r:embed="rId2"/>
          <a:stretch/>
        </p:blipFill>
        <p:spPr>
          <a:xfrm>
            <a:off x="108000" y="189000"/>
            <a:ext cx="1008000" cy="766800"/>
          </a:xfrm>
          <a:prstGeom prst="rect">
            <a:avLst/>
          </a:prstGeom>
          <a:ln w="0">
            <a:noFill/>
          </a:ln>
        </p:spPr>
      </p:pic>
      <p:pic>
        <p:nvPicPr>
          <p:cNvPr id="87" name="Image 1" descr=""/>
          <p:cNvPicPr/>
          <p:nvPr/>
        </p:nvPicPr>
        <p:blipFill>
          <a:blip r:embed="rId3"/>
          <a:stretch/>
        </p:blipFill>
        <p:spPr>
          <a:xfrm>
            <a:off x="8459640" y="6111720"/>
            <a:ext cx="600120" cy="746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08436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6B8D-4FB8-4A29-A81F-4522CCD86FE4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dt" idx="9"/>
          </p:nvPr>
        </p:nvSpPr>
        <p:spPr>
          <a:xfrm>
            <a:off x="32364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df.belgium.be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df.belgium.be/fr/Themes/UNCRPD/belgian_ratification/Rapport_alternatif_BDF.html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A140-5580-4E14-B8D4-C8E122911A2E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space réservé de la date 5"/>
          <p:cNvSpPr/>
          <p:nvPr/>
        </p:nvSpPr>
        <p:spPr>
          <a:xfrm>
            <a:off x="32400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Le médiateur, défenseur des droits des personnes porteuses de handica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99640" y="4076280"/>
            <a:ext cx="74170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ôle du BDF par rapport à la Convention sur les droits des personnes handicapées (ON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Gisèle Marlière, Secrétaire génér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Résult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4000" y="1197000"/>
            <a:ext cx="8640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e rapport alternatif : 271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ie 1 : 21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+ Contex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+ Référence aux articles correspond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ie 2 : Analyse détaillée, article par 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ransmis au comité des experts ON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= réalité de vie des PH en Belg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= complément du rapport officiel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(démarche constructiv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(Février 201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bdf.belgium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8D5-CA11-400D-97C3-87CAC7A9EA0D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nvoi aux gouvern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nvoi aux part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nvoi du lien via la newsletter du BD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Rencontres avec les Par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Occasion de discuter de la 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situation de vie des PH en 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Belg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ouvoir de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nvoi aux médiate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2BE-111F-4FBB-875E-6BEA43DDB9AE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G:\DG_PersHand\C.S.N.P.H.-N.H.R.G\Rapport BDF\Communication - Mise en oeuvre\Rencontres assemblées parlementaires\Communiqués\Parlement wallon\Parlement wallon-12032014-1_Députés Wallon.jpg"/>
          <p:cNvPicPr/>
          <p:nvPr/>
        </p:nvPicPr>
        <p:blipFill>
          <a:blip r:embed="rId1"/>
          <a:stretch/>
        </p:blipFill>
        <p:spPr>
          <a:xfrm>
            <a:off x="5867280" y="4043520"/>
            <a:ext cx="2430720" cy="1703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G:\DG_PersHand\C.S.N.P.H.-N.H.R.G\Rapport BDF\Communication - Mise en oeuvre\Rencontres assemblées parlementaires\Communiqués\Parlement wallon\Parlement wallon-12032014-2_Délégation BDF.jpg"/>
          <p:cNvPicPr/>
          <p:nvPr/>
        </p:nvPicPr>
        <p:blipFill>
          <a:blip r:embed="rId2"/>
          <a:stretch/>
        </p:blipFill>
        <p:spPr>
          <a:xfrm>
            <a:off x="6572160" y="1022400"/>
            <a:ext cx="2430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4000" y="1484280"/>
            <a:ext cx="8712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bdf.belgium.be/fr/Themes/UNCRPD/belgian_ratification/Rapport_alternatif_BDF.html</a:t>
            </a:r>
            <a:r>
              <a:rPr b="0" lang="fr-B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Version française complè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Version néerlandaise complè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Version anglaise complè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Recommandations en alleman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Recommandations en “facile à lire” França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Recommandations en “facile à lire” Néerlanda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Verdana"/>
              </a:rPr>
              <a:t>Communiqué de presse en langue des signes flaman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11B0-9590-433E-8893-5431BE3F19FF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mité des droits des personnes handicapé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vril 2014 : présentation du rapport alternatif à Genè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eptembre 2014 : dialogue constructi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mité des droits / Belg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résence d’une délégation du B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Octobre 2014 : Recommandations à l’Etat bel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ncordance globale avec les attentes du B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Utilisation dans nos contacts avec les autor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5908-EC86-4904-9963-933D545FF423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Verdana"/>
              </a:rPr>
              <a:t>Délégation société civile belge à l’ON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Espace réservé du contenu 6" descr=""/>
          <p:cNvPicPr/>
          <p:nvPr/>
        </p:nvPicPr>
        <p:blipFill>
          <a:blip r:embed="rId1"/>
          <a:stretch/>
        </p:blipFill>
        <p:spPr>
          <a:xfrm>
            <a:off x="544680" y="1484280"/>
            <a:ext cx="8199360" cy="4611600"/>
          </a:xfrm>
          <a:prstGeom prst="rect">
            <a:avLst/>
          </a:prstGeom>
          <a:ln w="0">
            <a:noFill/>
          </a:ln>
        </p:spPr>
      </p:pic>
      <p:sp>
        <p:nvSpPr>
          <p:cNvPr id="205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9C8-21CA-4D24-A34F-D7867DFFD8DA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7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Evaluation à mi-parco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773000"/>
            <a:ext cx="86407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pellation de chaque ministre 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Qu’avez-vous fait pour la mise en oeuvre de la CDPH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Peu de répo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Mauvaise compréhension de leur rô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onc : décevan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ce réservé du pied de page 3"/>
          <p:cNvSpPr/>
          <p:nvPr/>
        </p:nvSpPr>
        <p:spPr>
          <a:xfrm>
            <a:off x="3635280" y="6121440"/>
            <a:ext cx="223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084720" y="6121440"/>
            <a:ext cx="237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EFDA-0DBD-4082-A3DB-93585D689669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Espace réservé de la date 5"/>
          <p:cNvSpPr/>
          <p:nvPr/>
        </p:nvSpPr>
        <p:spPr>
          <a:xfrm>
            <a:off x="324000" y="6121440"/>
            <a:ext cx="30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Et maintenant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ravail similaire en cours 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Préparation de propositions de questions pour le Comité des droits des personnes handicap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Pour fin janvier 20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ialogue constructif prévu en 20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commandations à l’état belge prévues en 20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B95C-3AAF-4000-8D06-F1B5656F6A21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Verdana"/>
              </a:rPr>
              <a:t>Plateforme des conseils d’av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e rapport alternatif n’aurait pas existé si nous n’avions pas travaillé tous ensem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Nous avions jeté les bases il y a longtemps, déj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Dès 2008, BDF et CSNPH ont des réunions communes de leurs bureaux tous les 2 mo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 30/09/2011 a été créée une plateforme informelle des conseils d’a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D56-DF60-474E-861D-B705E257A050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Plateforme des conseils d’av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Réunion trimestriel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Un représentant par conseil d’av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Positionnement commun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Echange d’informations / Bonnes pra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dentification de priorités d’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étermination de positions commu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Coordination et interpellation politiq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DADF-CF15-4952-B292-C744CDA8A9A7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Représentation des PH dans la Belgique fédé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557000"/>
            <a:ext cx="2950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Fédé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5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Ré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mmunau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Matières E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03280" y="1557000"/>
            <a:ext cx="5761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nseil Supérieur national des Personnes Handicapées (CSNP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nseils d’avis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600" spc="-1" strike="noStrike">
                <a:solidFill>
                  <a:srgbClr val="000000"/>
                </a:solidFill>
                <a:latin typeface="Verdana"/>
              </a:rPr>
              <a:t>(non obligatoir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Commission Wallonne de la Personne handicapée (CWP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Conseil consultatif bruxellois bruxellois francophone de l’aide aux personnes , section « personnes handicapées (CBFPH) + Conseil bruxellois Co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nseils d’avis </a:t>
            </a:r>
            <a:r>
              <a:rPr b="0" lang="fr-BE" sz="1600" spc="-1" strike="noStrike">
                <a:solidFill>
                  <a:srgbClr val="000000"/>
                </a:solidFill>
                <a:latin typeface="Verdana"/>
              </a:rPr>
              <a:t>(non obligatoir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Kleines Forum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(serait en prépara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gian Disability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 Forum (BD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2E63-BA73-427C-A3B8-C680598921FD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Espace réservé de la date 5"/>
          <p:cNvSpPr/>
          <p:nvPr/>
        </p:nvSpPr>
        <p:spPr>
          <a:xfrm>
            <a:off x="32400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Qui est le </a:t>
            </a:r>
            <a:r>
              <a:rPr b="0" i="1" lang="fr-BE" sz="3200" spc="-1" strike="noStrike">
                <a:solidFill>
                  <a:srgbClr val="000000"/>
                </a:solidFill>
                <a:latin typeface="Verdana"/>
              </a:rPr>
              <a:t>Belgian Disability Forum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sbl (BDF)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e rapport alternatif du BDF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es conseils d’avis par niveau de compé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a plateforme des conseils d’av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a relation BDF / Médiate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05B-49EE-47D2-B856-123DE5AA5D5F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5080" y="30744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UNCRPD articles 4.3 et 33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Les outils exista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23640" y="1535040"/>
            <a:ext cx="8134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33.1 : (suivi et mise en oeuvre UNCRP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oints focaux (Agences handicap)  et mécanisme de coordination (SPF sécurité sociale) </a:t>
            </a:r>
            <a:r>
              <a:rPr b="0" lang="fr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 rapport official bel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Référents handicap dans les cabinets fédéraux et les administrations fédé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33.2 : Promotion et prot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ommission d’accompagnement U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33.3 : participation et sensibil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BDF et Plateforme des conseils d’a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Espace réservé du numéro de diapositive 5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60E-D248-41FC-B4B1-0F83CBA6A359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Espace réservé de la date 6"/>
          <p:cNvSpPr/>
          <p:nvPr/>
        </p:nvSpPr>
        <p:spPr>
          <a:xfrm>
            <a:off x="32400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Travail avec le médiateur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Missions respectives / défi comm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nchantée d’en débattre avec v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Pistes 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hacun son 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BDF : démarche globalis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Médiateur : défense des droits de chac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Concrètement : échanges et synergies à cré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BD86-091F-48ED-A47D-436A7DAB5544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6C4-C91B-411F-9C60-EEE324190384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Belgian Disability Forum (BDF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Forum belge de la personne handicapé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Forum d’associations représentatives des personnes handicap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Membres = 18 asb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≠ 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individ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≠  “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remière ligne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≠  “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cas individuel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=  lieu de rencontre, de dialogue, de prise de déc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Rôle : suivre les politiques européennes / supra nation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ssociation Sans But Lucratif (as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ssemblée générale = tous les pouvoi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Conseil d’administration = mise en œuv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3F21-03BD-4782-B282-3EC3E32C2CC2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BDF : 3 caractéris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dépend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asb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Fonctionne sur base des cotisations de ses memb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présent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Nombre d’associations membres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10 en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18 en 20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Total agrégé = 250.000 person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Recouvre les ≠ situations de handi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Ouv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D’autres associations peuvent le rejoind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ssociations « reconnues 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ctivités sur 1 région ou 2 provi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cquitter la cot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225-411A-4D84-AFB2-4CAC51EEA795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es missions et objectifs du BD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4072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formation et sensibilis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associations membres du B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e plus grand nombre : PH et grand 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 mainstreaming du handic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Toutes matières : capacité juridique, accessibilité, mobilité, emploi, santé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a dimension Droits de l’Homme des PH (changement de paradigme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a participation des PH dans les processus de réflexion et de d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Verdana"/>
              </a:rPr>
              <a:t>BDF – Organisations memb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332000"/>
          <a:ext cx="8640720" cy="47610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éO asbl (Mouvement social de personnes malades, valides et handicapé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53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ion Nationale d’Aide aux Handicapés Mentaux (ANAHM-NVHV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ion de parents et de professionnels autour de la personne polyhandicapée, asbl (AP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ion socialiste de la personne handicapée, asbl (ASP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53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INGO asb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172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sch MS-Liga - Ligue belge de la sclérose en pla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illeliga vzw – Ligue Braille asb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53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 Briques du GAM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of vlaanderen, vzw (FEVLA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35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édération francophone des sourds de Belgique, asbl (FFS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tholieke Vereniging Gehandicapten, vzw (KV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208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eines Forum - Dienststelle für Personen mit Behinder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dsbond der Christelijke Mutualiteiten ( LC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53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 Silex asb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al Verbond van Socialistische mutualiteiten (NVS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53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euvre fédéral les amis des aveugles et mal voyants, asb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496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eniging Personen met een Handicap vzw (VF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5320">
                <a:tc>
                  <a:txBody>
                    <a:bodyPr lIns="90000" rIns="7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eniging van Hemofilielijders en von Willebrand-Zieken, vzw (AHV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63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9444-D386-4935-8A1E-89197D9956A5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space réservé de la date 5"/>
          <p:cNvSpPr/>
          <p:nvPr/>
        </p:nvSpPr>
        <p:spPr>
          <a:xfrm>
            <a:off x="32400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076280"/>
            <a:ext cx="777240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 rapport alternatif du BDF sur la mise en œuvre de la Convention sur les droits des personnes handicapées (CDPH) par la Belg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A03-A111-4CC3-8BC1-A0C91C18804D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ce réservé de la date 5"/>
          <p:cNvSpPr/>
          <p:nvPr/>
        </p:nvSpPr>
        <p:spPr>
          <a:xfrm>
            <a:off x="32400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DP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700280"/>
            <a:ext cx="8785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Verdana"/>
              </a:rPr>
              <a:t>Ratification par la Belgique : 01/08/200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Verdana"/>
              </a:rPr>
              <a:t>Premier rapport périodique Belgique : août 2011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ce que fait la Belgique au niveau législat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pour la mise en œuvre de la CDP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Verdana"/>
              </a:rPr>
              <a:t>Société civile : possibilité de rapport alternati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Verdana"/>
              </a:rPr>
              <a:t>07/04/2011 : BDF commence à rédig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a réalité de vie des personnes handicapé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78B0-7E99-46AF-86DF-C58697655212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Alternati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41300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Partenari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18 organisations membres du BD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4 conseils d’av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Un travail en profond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Comité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34 réunions / 27 m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ce réservé du pied de page 3"/>
          <p:cNvSpPr/>
          <p:nvPr/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         2018-11-07-Congrès AOMF-Brux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107-0784-4751-98A0-BEEB877DD905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______________________________________ Belgian Disability Forum asbl (BDF) http://bdf.belgium.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3:30:00Z</dcterms:created>
  <dc:creator>Magritte Olivier</dc:creator>
  <dc:description/>
  <dc:language>en-US</dc:language>
  <cp:lastModifiedBy>Magritte Olivier</cp:lastModifiedBy>
  <cp:lastPrinted>2018-11-05T14:39:27Z</cp:lastPrinted>
  <dcterms:modified xsi:type="dcterms:W3CDTF">2018-11-09T08:59:17Z</dcterms:modified>
  <cp:revision>18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DF_LAST_URL">
    <vt:lpwstr>G:\DG_PersHand\C.S.N.P.H.-N.H.R.G\BDF\Communication\Matériel de présentation - Presentatie materiaal\BDF-FR-Présentation-2010-12-01.odp</vt:lpwstr>
  </property>
</Properties>
</file>