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5920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466561F-74E9-4FE4-BB61-DC3C1B2D93C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64CDEE6-8499-46A7-A9E5-C24AA203340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06E6A6E-0E68-4791-9189-A78BAD45334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DE9D0-5510-4943-B51C-D50FEADA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893400"/>
            <a:ext cx="86407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1BA6C-5A1E-4466-87D0-0D3AEDC2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89340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1640" y="389340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EFFB1-2B8F-4408-9B45-72A2B994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5400" y="148428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7160" y="148428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89340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5400" y="389340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7160" y="389340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FA331-130B-44AF-B587-6F8374C0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04E7E-756E-4863-97C6-FF162E40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24000" y="1484280"/>
            <a:ext cx="864072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B9E40-5023-4466-822F-8064D1A8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2C6F4-3ABC-430C-B71B-714C20EB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DB517F-3F54-4AE0-B3E9-739EE7E9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2A34C-AF41-4DCD-80EB-75FCC99F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87280" y="188640"/>
            <a:ext cx="777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63DC3-BB74-4969-B120-A4284EB6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4000" y="389340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4AAD5-496F-4489-AFCA-F4BEFB81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484280"/>
            <a:ext cx="864072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001EE-97FE-4C90-8984-829FF74F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51640" y="389340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20303-8A8A-4AFC-8876-143D92FC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24000" y="3893400"/>
            <a:ext cx="86407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C7C36-F519-4A33-8D47-D746525D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000" y="3893400"/>
            <a:ext cx="86407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0737A-0D2E-4C30-9633-2D07AD35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24000" y="389340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51640" y="389340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EEAB0-E42B-4CC7-A4AF-ABBD9D86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5400" y="148428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67160" y="148428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24000" y="389340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5400" y="389340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67160" y="389340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830AA-492B-47EC-8FAD-BA9E3D06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B34633-4C24-452D-AD1A-937D496A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24000" y="1484280"/>
            <a:ext cx="864072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351E8E-8BC1-4753-B0F2-A8ED1CAE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D4FEFE-87FF-45BF-9BF2-2434292C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236BDC-2C7C-4CAC-8328-122FC1DC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C4765-CB82-44A1-AB6B-45298A32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002F5-2CDA-4AE4-83FC-782A5E9D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87280" y="188640"/>
            <a:ext cx="777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9CCDEE-B55F-4432-BA9C-1D836BBF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24000" y="389340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FCA8D-E841-4DCB-9CEC-800B5FAC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51640" y="389340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CDD87C-D586-47E4-99F6-F86D233E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24000" y="3893400"/>
            <a:ext cx="86407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49557C-5F84-40A6-8489-F6254ABA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4000" y="3893400"/>
            <a:ext cx="86407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9CB0C-3D18-49E0-8297-C4971472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24000" y="389340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51640" y="389340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4A130C-A6CF-4C49-B7EC-BC5CD7B8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45400" y="148428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67160" y="148428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24000" y="389340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45400" y="389340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67160" y="3893400"/>
            <a:ext cx="278208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DB419-8CEC-494F-AC52-86756049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074FE-3A84-4602-AACC-1752569C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9C343-FFBA-4C8F-A3B6-9E457AF9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87280" y="188640"/>
            <a:ext cx="777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B3BF0-9C30-4E10-BADC-99BF0CD6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89340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DF698-129A-475C-921F-72F648DC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1640" y="389340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C2AA1-2B76-4071-8C14-510560D4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1640" y="1484280"/>
            <a:ext cx="42163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893400"/>
            <a:ext cx="86407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C07C7-0235-4692-8CEC-85FAF510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1484280"/>
            <a:ext cx="864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635280" y="6093000"/>
            <a:ext cx="22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CFHE – 6 avril 2018  Précarité et handic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08436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016C-4D3B-445C-886C-90B269BD0FBF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323640" y="6093000"/>
            <a:ext cx="316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_________ Belgian Disability Forum asbl (BDF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logo_bdf_web"/>
          <p:cNvPicPr/>
          <p:nvPr/>
        </p:nvPicPr>
        <p:blipFill>
          <a:blip r:embed="rId2"/>
          <a:stretch/>
        </p:blipFill>
        <p:spPr>
          <a:xfrm>
            <a:off x="108000" y="189000"/>
            <a:ext cx="1008000" cy="766800"/>
          </a:xfrm>
          <a:prstGeom prst="rect">
            <a:avLst/>
          </a:prstGeom>
          <a:ln w="0">
            <a:noFill/>
          </a:ln>
        </p:spPr>
      </p:pic>
      <p:pic>
        <p:nvPicPr>
          <p:cNvPr id="6" name="Image 1" descr=""/>
          <p:cNvPicPr/>
          <p:nvPr/>
        </p:nvPicPr>
        <p:blipFill>
          <a:blip r:embed="rId3"/>
          <a:stretch/>
        </p:blipFill>
        <p:spPr>
          <a:xfrm>
            <a:off x="8459640" y="6111720"/>
            <a:ext cx="600120" cy="74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1" descr="logo_bdf_web"/>
          <p:cNvPicPr/>
          <p:nvPr/>
        </p:nvPicPr>
        <p:blipFill>
          <a:blip r:embed="rId2"/>
          <a:stretch/>
        </p:blipFill>
        <p:spPr>
          <a:xfrm>
            <a:off x="108000" y="189000"/>
            <a:ext cx="1008000" cy="766800"/>
          </a:xfrm>
          <a:prstGeom prst="rect">
            <a:avLst/>
          </a:prstGeom>
          <a:ln w="0">
            <a:noFill/>
          </a:ln>
        </p:spPr>
      </p:pic>
      <p:pic>
        <p:nvPicPr>
          <p:cNvPr id="44" name="Image 1" descr=""/>
          <p:cNvPicPr/>
          <p:nvPr/>
        </p:nvPicPr>
        <p:blipFill>
          <a:blip r:embed="rId3"/>
          <a:stretch/>
        </p:blipFill>
        <p:spPr>
          <a:xfrm>
            <a:off x="8459640" y="6111720"/>
            <a:ext cx="600120" cy="746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1484280"/>
            <a:ext cx="864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635280" y="6093000"/>
            <a:ext cx="22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CFHE – 6 avril 2018  Précarité et handic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608436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5E72-DE47-4124-8EF6-BEE75F25A34A}" type="slidenum">
              <a:rPr b="0" lang="en-GB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Verdana"/>
              </a:rPr>
              <a:t>Het BDF is lid van het 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dt" idx="6"/>
          </p:nvPr>
        </p:nvSpPr>
        <p:spPr>
          <a:xfrm>
            <a:off x="323640" y="6093000"/>
            <a:ext cx="316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_________ Belgian Disability Forum asbl (BDF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1" descr="logo_bdf_web"/>
          <p:cNvPicPr/>
          <p:nvPr/>
        </p:nvPicPr>
        <p:blipFill>
          <a:blip r:embed="rId2"/>
          <a:stretch/>
        </p:blipFill>
        <p:spPr>
          <a:xfrm>
            <a:off x="108000" y="189000"/>
            <a:ext cx="1008000" cy="766800"/>
          </a:xfrm>
          <a:prstGeom prst="rect">
            <a:avLst/>
          </a:prstGeom>
          <a:ln w="0">
            <a:noFill/>
          </a:ln>
        </p:spPr>
      </p:pic>
      <p:pic>
        <p:nvPicPr>
          <p:cNvPr id="87" name="Image 1" descr=""/>
          <p:cNvPicPr/>
          <p:nvPr/>
        </p:nvPicPr>
        <p:blipFill>
          <a:blip r:embed="rId3"/>
          <a:stretch/>
        </p:blipFill>
        <p:spPr>
          <a:xfrm>
            <a:off x="8459640" y="6111720"/>
            <a:ext cx="600120" cy="746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24000" y="1484280"/>
            <a:ext cx="8640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7"/>
          </p:nvPr>
        </p:nvSpPr>
        <p:spPr>
          <a:xfrm>
            <a:off x="3635280" y="6093000"/>
            <a:ext cx="22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CFHE – 6 avril 2018  Précarité et handic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08436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092C-4276-49A7-B8C6-5F07F2710CDF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dt" idx="9"/>
          </p:nvPr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_________ Belgian Disability Forum asbl (BDF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bdf.belgium.be/fr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000000"/>
                </a:solidFill>
                <a:latin typeface="Verdana"/>
              </a:rPr>
              <a:t>Belgian Disability Foru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99640" y="3716280"/>
            <a:ext cx="7417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Verdana"/>
              </a:rPr>
              <a:t>CF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Verdana"/>
              </a:rPr>
              <a:t>Précarité et Handicap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Verdana"/>
              </a:rPr>
              <a:t>La situation en Belgique en 2018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Verdana"/>
              </a:rPr>
              <a:t>Outils de la lutte </a:t>
            </a:r>
            <a:br>
              <a:rPr sz="3600"/>
            </a:br>
            <a:r>
              <a:rPr b="1" lang="fr-BE" sz="3600" spc="-1" strike="noStrike">
                <a:solidFill>
                  <a:srgbClr val="000000"/>
                </a:solidFill>
                <a:latin typeface="Verdana"/>
              </a:rPr>
              <a:t>contre la pauvreté (4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79280" y="1844640"/>
            <a:ext cx="864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L’UNCRPD et le handistream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  <a:ea typeface="Calibri"/>
              </a:rPr>
              <a:t>Pas de plan national handica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  <a:ea typeface="Calibri"/>
              </a:rPr>
              <a:t>Mesures ponctuelles parfois antinom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e secteur du handicap assure son rôle d’aiguillon politique mais l’implication effective des besoins des personnes handicapées reste difficil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Espace réservé du pied de page 3"/>
          <p:cNvSpPr/>
          <p:nvPr/>
        </p:nvSpPr>
        <p:spPr>
          <a:xfrm>
            <a:off x="3635280" y="623736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CFHE – 6 avril 2018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Précarité et handic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B137-DA61-4B30-B036-F2CA3695E7F5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_________ Belgian Disability Forum asbl (BDF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7744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Les nouvelles formes de précarité : la scherwoodisation et le non take-up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2295360"/>
            <a:ext cx="8640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La non-connaissance, la non-demande, le non-accès, la non-proposition et l’« auto-exclusion »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L’organisation administrative elle-même  explique en grande partie le non take-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L’automatisation des échanges de données n’augmente pas l’accès aux dro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Espace réservé du pied de page 3"/>
          <p:cNvSpPr/>
          <p:nvPr/>
        </p:nvSpPr>
        <p:spPr>
          <a:xfrm>
            <a:off x="3635280" y="623736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CFHE – 6 avril 2018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Précarité et handic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B7EE-9908-4ADF-B2BF-47F6A60BB5F9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_________ Belgian Disability Forum asbl (BDF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"/>
          <p:cNvSpPr/>
          <p:nvPr/>
        </p:nvSpPr>
        <p:spPr>
          <a:xfrm>
            <a:off x="2286000" y="2274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L’automatisation développe ses effets perv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24000" y="2781360"/>
            <a:ext cx="8640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es prestations non réclamées  = 30%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Taux de non-recours du revenu d’intégration = 65%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Espace réservé du pied de page 3"/>
          <p:cNvSpPr/>
          <p:nvPr/>
        </p:nvSpPr>
        <p:spPr>
          <a:xfrm>
            <a:off x="3635280" y="623736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CFHE – 6 avril 2018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Précarité et handic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F481-5943-482C-A9C0-016AA4164917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_________ Belgian Disability Forum asbl (BDF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77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  <a:ea typeface="Calibri"/>
              </a:rPr>
              <a:t>URGENCE :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Calibri"/>
              </a:rPr>
              <a:t>revenir aux form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Calibri"/>
              </a:rPr>
              <a:t>et priorités originell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Calibri"/>
              </a:rPr>
              <a:t>de l’automatisation (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4000" y="2637000"/>
            <a:ext cx="864072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  <a:ea typeface="Calibri"/>
              </a:rPr>
              <a:t>Octroi automatique d’un dro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  <a:ea typeface="Calibri"/>
              </a:rPr>
              <a:t>Identification du bénéficiaire potentiel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  <a:ea typeface="Calibri"/>
              </a:rPr>
              <a:t>Actualisation automatique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  <a:ea typeface="Calibri"/>
              </a:rPr>
              <a:t>Simplification administrative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  <a:ea typeface="Calibri"/>
              </a:rPr>
              <a:t>Eviter les indus et rembourseme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Espace réservé du pied de page 3"/>
          <p:cNvSpPr/>
          <p:nvPr/>
        </p:nvSpPr>
        <p:spPr>
          <a:xfrm>
            <a:off x="3635280" y="623736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CFHE – 6 avril 2018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Précarité et handic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D96F-2F6C-4480-A1D3-5C98DDD8461C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_________ Belgian Disability Forum asbl (BDF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77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  <a:ea typeface="Calibri"/>
              </a:rPr>
              <a:t>URGENCE :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Calibri"/>
              </a:rPr>
              <a:t>revenir aux form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Calibri"/>
              </a:rPr>
              <a:t>et priorités originell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Calibri"/>
              </a:rPr>
              <a:t>de l’automatisation (2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4000" y="2420640"/>
            <a:ext cx="8640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Calibri"/>
              </a:rPr>
              <a:t>Supprimer le « tout à l’ordinateur »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oser systématiquement la question de l’impact de la mesure envisagée sur le respect des droits fondamenta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évelopper le réseau des assistants sociaux, des experts du véc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Espace réservé du pied de page 3"/>
          <p:cNvSpPr/>
          <p:nvPr/>
        </p:nvSpPr>
        <p:spPr>
          <a:xfrm>
            <a:off x="3635280" y="623736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CFHE – 6 avril 2018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Précarité et handic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A9A6-F6A5-4FCE-A78B-BEBA80D0F318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_________ Belgian Disability Forum asbl (BDF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Une décision politique forte </a:t>
            </a:r>
            <a:br>
              <a:rPr sz="3200"/>
            </a:b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est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4000" y="1844640"/>
            <a:ext cx="864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Verdana"/>
              </a:rPr>
              <a:t>Au même titre que le Gouvernement a mis sur pied un plan ambitieux de relance de l’emploi, assorti de moyens forts et d’échéances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  <a:ea typeface="Verdana"/>
              </a:rPr>
              <a:t>Il faut un plan ambitieux et concrètement développé de lutte contre la pauvreté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Espace réservé du pied de page 1"/>
          <p:cNvSpPr/>
          <p:nvPr/>
        </p:nvSpPr>
        <p:spPr>
          <a:xfrm>
            <a:off x="3635280" y="623736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CFHE – 6 avril 2018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Précarité et handic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Espace réservé du numéro de diapositive 2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0C94-6636-44C3-BC22-2FF66419F4EA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Espace réservé de la date 3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_________ Belgian Disability Forum asbl (BDF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r-BE" sz="3600" spc="-1" strike="noStrike">
                <a:solidFill>
                  <a:srgbClr val="000000"/>
                </a:solidFill>
                <a:latin typeface="Verdana"/>
                <a:ea typeface="Calibri"/>
              </a:rPr>
              <a:t>Les attentes des personnes (1) 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50920" y="2421000"/>
            <a:ext cx="8640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  <a:ea typeface="Calibri"/>
              </a:rPr>
              <a:t>Renforcer les institutions et non pas les détricoter ; les faire parler entre e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  <a:ea typeface="Calibri"/>
              </a:rPr>
              <a:t>Une priorité à l’emploi. Mais cette priorité doit AUSSI être inclusive d’une politique socia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3635280" y="623736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CFHE – 6 avril 2018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Précarité et handic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0806-3727-430E-89DE-D273F447A7E4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_________ Belgian Disability Forum asbl (BDF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r-BE" sz="3600" spc="-1" strike="noStrike">
                <a:solidFill>
                  <a:srgbClr val="000000"/>
                </a:solidFill>
                <a:latin typeface="Verdana"/>
                <a:ea typeface="Calibri"/>
              </a:rPr>
              <a:t>Les attentes des personnes (2) 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4000" y="2420640"/>
            <a:ext cx="8640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Un plan national de lutte contre la pauvreté et un plan national pour l’inclusion des personnes handicapées dans tous les domain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ce réservé du pied de page 3"/>
          <p:cNvSpPr/>
          <p:nvPr/>
        </p:nvSpPr>
        <p:spPr>
          <a:xfrm>
            <a:off x="3635280" y="623736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CFHE – 6 avril 2018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Précarité et handic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1B6E-689D-418C-A4EE-5E54363BB8F0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_________ Belgian Disability Forum asbl (BDF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r-BE" sz="3600" spc="-1" strike="noStrike">
                <a:solidFill>
                  <a:srgbClr val="000000"/>
                </a:solidFill>
                <a:latin typeface="Verdana"/>
                <a:ea typeface="Calibri"/>
              </a:rPr>
              <a:t>Les attentes des personnes (3)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24000" y="2491920"/>
            <a:ext cx="8640720" cy="28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Relayer la voix de l’usager et du citoyen : la place des conseils consultatifs dans les processus de réflexion et de décision (UNCRPD art. 4.3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Espace réservé du pied de page 3"/>
          <p:cNvSpPr/>
          <p:nvPr/>
        </p:nvSpPr>
        <p:spPr>
          <a:xfrm>
            <a:off x="3635280" y="623736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CFHE – 6 avril 2018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Précarité et handic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BC52-54DE-465C-98A4-762F5D16C968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_________ Belgian Disability Forum asbl (BDF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Verdana"/>
              </a:rPr>
              <a:t>EN GUISE DE CONCLUSION (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916280"/>
            <a:ext cx="8640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Faire de la lutte contre la pauvreté une priorité abso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transversale, nationale et européenne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ssortie d’objectifs et de moyens ambitieux en qualité et en quantité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’un calendrier réaliste mais suivi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’indicateurs communs à tous et évalu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Espace réservé du pied de page 3"/>
          <p:cNvSpPr/>
          <p:nvPr/>
        </p:nvSpPr>
        <p:spPr>
          <a:xfrm>
            <a:off x="3635280" y="623736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CFHE – 6 avril 2018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Précarité et handic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F504-01E9-40DA-8190-89E85E1EDA34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_________ Belgian Disability Forum asbl (BDF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Verdana"/>
              </a:rPr>
              <a:t>Thème vaste, pas neuf et plus que jamais d’actualité !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50920" y="1916280"/>
            <a:ext cx="864072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Constats de terrain et chiff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Des précisions sur le contexte politique et économique global de la Belg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Les outils susceptibles de lutter contre la pauvreté  en Belg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Les nouvelles formes de précarité : la scherwoodisation et le non take-up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Les attentes des personnes</a:t>
            </a:r>
            <a:r>
              <a:rPr b="0" lang="fr-B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BE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Espace réservé du pied de page 3"/>
          <p:cNvSpPr/>
          <p:nvPr/>
        </p:nvSpPr>
        <p:spPr>
          <a:xfrm>
            <a:off x="3564000" y="623736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CFHE – 6 avril 2018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Précarité et handic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9511-30CC-4017-BC88-126A1ACFBC92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_________ Belgian Disability Forum asbl (BDF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Verdana"/>
              </a:rPr>
              <a:t>EN GUISE DE CONCLUSION (2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2349000"/>
            <a:ext cx="864072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’UE DOIT SANCTIONNER les Etats défail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Il ne faut pas compter sur la régulation du march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ce réservé du pied de page 3"/>
          <p:cNvSpPr/>
          <p:nvPr/>
        </p:nvSpPr>
        <p:spPr>
          <a:xfrm>
            <a:off x="3635280" y="623736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CFHE – 6 avril 2018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Précarité et handic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5A72-8CA3-4D14-8D67-0D03B577EB70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_________ Belgian Disability Forum asbl (BDF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Verdana"/>
              </a:rPr>
              <a:t>EN GUISE DE CONCLUSION (3)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24000" y="2060640"/>
            <a:ext cx="86407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es outils à renforcer : PNR, l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 pilier social européen, l’UNCRPD,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bjectifs du développement durable </a:t>
            </a:r>
            <a:r>
              <a:rPr b="0" lang="fr-BE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fr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BE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FSE = bras armé du volet social europé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Mais aussi renforcer le tissu de l’accompagnement social par nos administrations et des guichets uniques compétents et interconnect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Espace réservé du pied de page 3"/>
          <p:cNvSpPr/>
          <p:nvPr/>
        </p:nvSpPr>
        <p:spPr>
          <a:xfrm>
            <a:off x="3635280" y="623736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CFHE – 6 avril 2018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Précarité et handic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B4E7-908D-41E4-9187-D098D1C19056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_________ Belgian Disability Forum asbl (BDF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692280"/>
            <a:ext cx="7777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Verdana"/>
              </a:rPr>
              <a:t>Pour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toutes inform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24000" y="2205000"/>
            <a:ext cx="8640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2060"/>
                </a:solidFill>
                <a:latin typeface="Verdana"/>
              </a:rPr>
              <a:t>BDF : </a:t>
            </a:r>
            <a:r>
              <a:rPr b="1" lang="nl-BE" sz="3200" spc="-1" strike="noStrike">
                <a:solidFill>
                  <a:srgbClr val="002060"/>
                </a:solidFill>
                <a:latin typeface="Verdana"/>
              </a:rPr>
              <a:t>http://bdf.belgium.be/fr/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2060"/>
                </a:solidFill>
                <a:latin typeface="Verdana"/>
              </a:rPr>
              <a:t>C</a:t>
            </a: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NPH : </a:t>
            </a:r>
            <a:r>
              <a:rPr b="1" lang="en-US" sz="3200" spc="-1" strike="noStrike">
                <a:solidFill>
                  <a:srgbClr val="002060"/>
                </a:solidFill>
                <a:latin typeface="Verdana"/>
              </a:rPr>
              <a:t>http://ph.belgium.be/fr/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Espace réservé du pied de page 3"/>
          <p:cNvSpPr/>
          <p:nvPr/>
        </p:nvSpPr>
        <p:spPr>
          <a:xfrm>
            <a:off x="3635280" y="623736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CFHE – 6 avril 2018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Précarité et handic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5E42-1F9A-449C-8A35-DCB648FD3F75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_________ Belgian Disability Forum asbl (BDF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Verdana"/>
              </a:rPr>
              <a:t>Constats de terrain </a:t>
            </a:r>
            <a:br>
              <a:rPr sz="3600"/>
            </a:br>
            <a:r>
              <a:rPr b="1" lang="fr-BE" sz="3600" spc="-1" strike="noStrike">
                <a:solidFill>
                  <a:srgbClr val="000000"/>
                </a:solidFill>
                <a:latin typeface="Verdana"/>
              </a:rPr>
              <a:t>et chiffres (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0920" y="1988640"/>
            <a:ext cx="86407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Calibri"/>
              </a:rPr>
              <a:t>Engagements UE 2010- 2020 : sortir 20 millions de personnes de la pauvreté en UE; 380.000 personnes en B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200" spc="-1" strike="noStrike">
                <a:solidFill>
                  <a:srgbClr val="000000"/>
                </a:solidFill>
                <a:latin typeface="Verdana"/>
                <a:ea typeface="Calibri"/>
              </a:rPr>
              <a:t>2018 en BE 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Calibri"/>
              </a:rPr>
              <a:t>15,5 % de la population; 66,2% pour les chômeurs, 53% pour les membres de familles monoparentales et 46% pour les locat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Verdana"/>
                <a:ea typeface="Calibri"/>
              </a:rPr>
              <a:t>Plus d’une personne sur 5 court le risqu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Calibri"/>
              </a:rPr>
              <a:t>20% des personnes reportent ou annulent leur traitement médical ; une personne sur cinq éprouve des difficultés à payer son loyer et ses factures d’énergi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3635280" y="623736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CFHE – 6 avril 2018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Précarité et handic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59BB-6C13-4349-8565-775BF03DABBE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_________ Belgian Disability Forum asbl (BDF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Verdana"/>
              </a:rPr>
              <a:t>Constats de terrain </a:t>
            </a:r>
            <a:br>
              <a:rPr sz="3600"/>
            </a:br>
            <a:r>
              <a:rPr b="1" lang="fr-BE" sz="3600" spc="-1" strike="noStrike">
                <a:solidFill>
                  <a:srgbClr val="000000"/>
                </a:solidFill>
                <a:latin typeface="Verdana"/>
              </a:rPr>
              <a:t>et chiffres (2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2637000"/>
            <a:ext cx="8640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  <a:ea typeface="Calibri"/>
              </a:rPr>
              <a:t>Il manque le volet « inclusif » dans les réformes glob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  <a:ea typeface="Calibri"/>
              </a:rPr>
              <a:t>Modèle de culpabilité individuel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Espace réservé du pied de page 3"/>
          <p:cNvSpPr/>
          <p:nvPr/>
        </p:nvSpPr>
        <p:spPr>
          <a:xfrm>
            <a:off x="3635280" y="623736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CFHE – 6 avril 2018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Précarité et handic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FE4F-C6D8-4E34-A2E2-8E96791F73E9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_________ Belgian Disability Forum asbl (BDF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Verdana"/>
              </a:rPr>
              <a:t>Contexte politique et économique global</a:t>
            </a:r>
            <a:r>
              <a:rPr b="1" lang="fr-BE" sz="2800" spc="-1" strike="noStrike">
                <a:solidFill>
                  <a:srgbClr val="000000"/>
                </a:solidFill>
                <a:latin typeface="Verdana"/>
              </a:rPr>
              <a:t> (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916280"/>
            <a:ext cx="864072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800" spc="-1" strike="noStrike">
                <a:solidFill>
                  <a:srgbClr val="000000"/>
                </a:solidFill>
                <a:latin typeface="Verdana"/>
              </a:rPr>
              <a:t>« job, job, job</a:t>
            </a: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 » versus les exclusions et les atteintes aux statut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Un chômage en recul mais un taux d’emploi en réalité faible (67% des personnes valides pour 34% des personnes handicapées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Le travail est véritablement la mesure des droits mais pas de responsabilité sociétale des employeurs du secteur priv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Mesures linéaires dans un grand nombre de domaines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Espace réservé du pied de page 3"/>
          <p:cNvSpPr/>
          <p:nvPr/>
        </p:nvSpPr>
        <p:spPr>
          <a:xfrm>
            <a:off x="3635280" y="623736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CFHE – 6 avril 2018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Précarité et handic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ED89-B32B-44C8-AB56-A5ECBEADBD6B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_________ Belgian Disability Forum asbl (BDF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Verdana"/>
              </a:rPr>
              <a:t>Contexte politique et économique global (2)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4000" y="1628640"/>
            <a:ext cx="864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La digitalisation, l’e-administration versus la réduction des services au public 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La digitalisation est devenu un moyen de lutte contre les dépenses financières de l’Etat et un outil au service de la lutte contre la fraude soci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  <a:ea typeface="Calibri"/>
              </a:rPr>
              <a:t>Les guichets d’informations se fer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  <a:ea typeface="Calibri"/>
              </a:rPr>
              <a:t>Le citoyen doit gérer lui-même son dossi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  <a:ea typeface="Calibri"/>
              </a:rPr>
              <a:t>Le citoyen doit être dans la norme des trajets prédéfinis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  <a:ea typeface="Calibri"/>
              </a:rPr>
              <a:t>Le marché se substitue à l’administ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3635280" y="623736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CFHE – 6 avril 2018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Précarité et handic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093C-D9BB-4679-B3E2-0AD7E7103C31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_________ Belgian Disability Forum asbl (BDF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Verdana"/>
              </a:rPr>
              <a:t>Outils de la lutte </a:t>
            </a:r>
            <a:br>
              <a:rPr sz="3600"/>
            </a:br>
            <a:r>
              <a:rPr b="1" lang="fr-BE" sz="3600" spc="-1" strike="noStrike">
                <a:solidFill>
                  <a:srgbClr val="000000"/>
                </a:solidFill>
                <a:latin typeface="Verdana"/>
              </a:rPr>
              <a:t>contre la pauvreté (1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915920"/>
            <a:ext cx="864072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Les engagements politiques des gouvernements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- Ambivalents 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- Minima sociaux de 10% sous le seuil de pauvre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Les plans de lutte contre la pauvreté et l’exclusion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Actions peu nombreuses, non intégrées, peu assorties de budgets ni même d’é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850320">
              <a:spcBef>
                <a:spcPts val="601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space réservé du pied de page 3"/>
          <p:cNvSpPr/>
          <p:nvPr/>
        </p:nvSpPr>
        <p:spPr>
          <a:xfrm>
            <a:off x="3635280" y="623736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CFHE – 6 avril 2018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Précarité et handic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CB38-588C-4BEF-AF35-6D2B5698600B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_________ Belgian Disability Forum asbl (BDF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Verdana"/>
              </a:rPr>
              <a:t>Outils de la lutte </a:t>
            </a:r>
            <a:br>
              <a:rPr sz="3600"/>
            </a:br>
            <a:r>
              <a:rPr b="1" lang="fr-BE" sz="3600" spc="-1" strike="noStrike">
                <a:solidFill>
                  <a:srgbClr val="000000"/>
                </a:solidFill>
                <a:latin typeface="Verdana"/>
              </a:rPr>
              <a:t>contre la pauvreté (2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4000" y="1844640"/>
            <a:ext cx="864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Les Plans Nationaux de réforme (PNR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Verdana"/>
              <a:buChar char="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s écarts au sein de la population se creusent  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7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a redistribution économique est inabouti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auvreté et exclusion grandissantes dans les groupes de personnes défavorisées, notamment par la maladie et le handic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Les Fonds structurels (FS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Ne rendent pas les domaines de l’emploi et de la formation plus accessibles aux personnes handicapées et malad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Espace réservé du pied de page 3"/>
          <p:cNvSpPr/>
          <p:nvPr/>
        </p:nvSpPr>
        <p:spPr>
          <a:xfrm>
            <a:off x="3708360" y="623736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CFHE – 6 avril 2018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Précarité et handic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E630-805B-430A-B0E6-2B6F824B4461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_________ Belgian Disability Forum asbl (BDF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>
                <a:solidFill>
                  <a:srgbClr val="000000"/>
                </a:solidFill>
                <a:latin typeface="Verdana"/>
              </a:rPr>
              <a:t>Outils de la lutte </a:t>
            </a:r>
            <a:br>
              <a:rPr sz="3600"/>
            </a:br>
            <a:r>
              <a:rPr b="1" lang="fr-BE" sz="3600" spc="-1" strike="noStrike">
                <a:solidFill>
                  <a:srgbClr val="000000"/>
                </a:solidFill>
                <a:latin typeface="Verdana"/>
              </a:rPr>
              <a:t>contre la pauvreté (3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24000" y="1700280"/>
            <a:ext cx="8640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L’automatisation des droi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De plus en plus de situations dans lesquelles les personnes sont exclues du système de protection sociale glob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Verdana"/>
              </a:rPr>
              <a:t>La Plateforme de lutte contre la pauvret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Instance qui facilite la concertation des parties pren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Verdana"/>
              </a:rPr>
              <a:t>Les pouvoirs politiques ne donnent pas le suivi que mériteraient les travaux, constats et recommandations de la platefor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Espace réservé du pied de page 3"/>
          <p:cNvSpPr/>
          <p:nvPr/>
        </p:nvSpPr>
        <p:spPr>
          <a:xfrm>
            <a:off x="3635280" y="6237360"/>
            <a:ext cx="22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CFHE – 6 avril 2018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Précarité et handicap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Espace réservé du numéro de diapositive 4"/>
          <p:cNvSpPr/>
          <p:nvPr/>
        </p:nvSpPr>
        <p:spPr>
          <a:xfrm>
            <a:off x="6084720" y="6093000"/>
            <a:ext cx="23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5F4E-47DF-4047-8402-1BB4D20E2A19}" type="slidenum">
              <a:rPr b="0" lang="fr-B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__________________________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900" spc="-1" strike="noStrike">
                <a:solidFill>
                  <a:srgbClr val="000000"/>
                </a:solidFill>
                <a:latin typeface="Verdana"/>
              </a:rPr>
              <a:t>Le BDF est membre de l’E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Espace réservé de la date 5"/>
          <p:cNvSpPr/>
          <p:nvPr/>
        </p:nvSpPr>
        <p:spPr>
          <a:xfrm>
            <a:off x="324000" y="609300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_____________________________________ Belgian Disability Forum asbl (BDF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13:30:00Z</dcterms:created>
  <dc:creator>Magritte Olivier</dc:creator>
  <dc:description/>
  <dc:language>en-US</dc:language>
  <cp:lastModifiedBy>Duchenne Véronique</cp:lastModifiedBy>
  <cp:lastPrinted>2014-02-25T09:05:54Z</cp:lastPrinted>
  <dcterms:modified xsi:type="dcterms:W3CDTF">2018-04-04T17:25:07Z</dcterms:modified>
  <cp:revision>269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DF_LAST_URL">
    <vt:lpwstr>G:\DG_PersHand\C.S.N.P.H.-N.H.R.G\BDF\Communication\Matériel de présentation - Presentatie materiaal\BDF-FR-Présentation-2010-12-01.odp</vt:lpwstr>
  </property>
</Properties>
</file>